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6.png" ContentType="image/png"/>
  <Override PartName="/ppt/media/image7.gif" ContentType="image/gif"/>
  <Override PartName="/ppt/media/image9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6B09-3454-48F6-ABCD-D10407CFC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3B39D-2F71-40A2-A230-B61EFDC9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8C15-5627-457D-BD33-8BFE50CBD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194C-5167-4B44-B343-F6445F014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4D0B-8751-48AD-BB43-BAC394C3A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539E4-04A4-4F82-84BA-304B122D1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929F-B726-451E-9008-E01CA432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863-4A84-4AA4-B20F-CE6B5B98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14B8-AA37-46C3-85D4-C97006A05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3FB2-B770-4572-91B0-E322672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4C678-1109-4AA5-8FC9-3E717CD1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9592-1D86-470B-B536-97C6C3AD9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dfe"/>
            </a:gs>
            <a:gs pos="100000">
              <a:srgbClr val="ebf6f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EDF5-E25F-402C-A69F-1772E01017B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1908000" y="1844640"/>
            <a:ext cx="59040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18.2</a:t>
            </a:r>
            <a:r>
              <a:rPr b="1" i="1" lang="zh-C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抽样调查</a:t>
            </a:r>
            <a:endParaRPr b="1" i="1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AutoShape 2"/>
          <p:cNvSpPr/>
          <p:nvPr/>
        </p:nvSpPr>
        <p:spPr>
          <a:xfrm>
            <a:off x="900000" y="0"/>
            <a:ext cx="8028000" cy="981000"/>
          </a:xfrm>
          <a:prstGeom prst="cloudCallout">
            <a:avLst>
              <a:gd name="adj1" fmla="val -43967"/>
              <a:gd name="adj2" fmla="val 169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下列调查又是如何进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4218120"/>
            <a:ext cx="8229600" cy="19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  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为一特定目而对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部分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考察对象所作的调查叫做抽样调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182adc3cac89b44147cd9e9071fead3"/>
          <p:cNvPicPr/>
          <p:nvPr/>
        </p:nvPicPr>
        <p:blipFill>
          <a:blip r:embed="rId1"/>
          <a:stretch/>
        </p:blipFill>
        <p:spPr>
          <a:xfrm>
            <a:off x="2340000" y="1197000"/>
            <a:ext cx="2808360" cy="2028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5"/>
          <p:cNvSpPr/>
          <p:nvPr/>
        </p:nvSpPr>
        <p:spPr>
          <a:xfrm>
            <a:off x="0" y="0"/>
            <a:ext cx="1219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Garamond"/>
                <a:ea typeface="方正舒体"/>
              </a:rPr>
              <a:t>讨论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2340000" y="3284640"/>
            <a:ext cx="281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灯泡的寿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5568840" y="3141720"/>
            <a:ext cx="3251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收视率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%E7%94%B5%E8%A7%86%E6%9C%BA"/>
          <p:cNvPicPr/>
          <p:nvPr/>
        </p:nvPicPr>
        <p:blipFill>
          <a:blip r:embed="rId2"/>
          <a:stretch/>
        </p:blipFill>
        <p:spPr>
          <a:xfrm>
            <a:off x="5796000" y="1197000"/>
            <a:ext cx="2808360" cy="21286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EA02020 副本"/>
          <p:cNvPicPr/>
          <p:nvPr/>
        </p:nvPicPr>
        <p:blipFill>
          <a:blip r:embed="rId3"/>
          <a:stretch/>
        </p:blipFill>
        <p:spPr>
          <a:xfrm>
            <a:off x="250920" y="1773360"/>
            <a:ext cx="1544400" cy="2087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281800" cy="61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下列调查中，哪些用的是普查？哪些是抽样调查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了了解你所在的班级的每个学生穿几号鞋，向全班学生做调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了解电视机显像管的使用寿命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调查我国所有城市中哪些是第一批沿海开放城市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宋体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全国范围内调查七年级学生的平均身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答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1332000" y="2997360"/>
            <a:ext cx="2601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476360" y="4292640"/>
            <a:ext cx="145116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普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476360" y="5661000"/>
            <a:ext cx="2521080" cy="70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抽样调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"/>
          <p:cNvSpPr/>
          <p:nvPr/>
        </p:nvSpPr>
        <p:spPr>
          <a:xfrm>
            <a:off x="1619280" y="1989000"/>
            <a:ext cx="14508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0000"/>
                </a:solidFill>
                <a:latin typeface="Arial"/>
              </a:rPr>
              <a:t>普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92000" y="2599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你为什么不采用普查方式进行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下列调查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在全国范围内调查七年级学生的平均身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了解电视机显象管的使用寿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79280" y="4762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华文中宋"/>
                <a:ea typeface="华文中宋"/>
              </a:rPr>
              <a:t>讲一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5" descr="GIF-502"/>
          <p:cNvPicPr/>
          <p:nvPr/>
        </p:nvPicPr>
        <p:blipFill>
          <a:blip r:embed="rId1"/>
          <a:stretch/>
        </p:blipFill>
        <p:spPr>
          <a:xfrm>
            <a:off x="7740720" y="0"/>
            <a:ext cx="1160280" cy="187164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6"/>
          <p:cNvSpPr/>
          <p:nvPr/>
        </p:nvSpPr>
        <p:spPr>
          <a:xfrm>
            <a:off x="971640" y="2637000"/>
            <a:ext cx="5688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范围太大，不易进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885960" y="4164120"/>
            <a:ext cx="684036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具有破坏性，不允许进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4"/>
          <p:cNvSpPr/>
          <p:nvPr/>
        </p:nvSpPr>
        <p:spPr>
          <a:xfrm>
            <a:off x="395280" y="765000"/>
            <a:ext cx="72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１、普查与抽样调查有何优缺点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42920" y="1628640"/>
          <a:ext cx="8893080" cy="4119480"/>
        </p:xfrm>
        <a:graphic>
          <a:graphicData uri="http://schemas.openxmlformats.org/drawingml/2006/table">
            <a:tbl>
              <a:tblPr/>
              <a:tblGrid>
                <a:gridCol w="2963880"/>
                <a:gridCol w="2965320"/>
                <a:gridCol w="2963880"/>
              </a:tblGrid>
              <a:tr h="1373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调查方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优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缺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普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0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抽样调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6"/>
          <p:cNvSpPr/>
          <p:nvPr/>
        </p:nvSpPr>
        <p:spPr>
          <a:xfrm>
            <a:off x="3203640" y="4365720"/>
            <a:ext cx="282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调查的范围小、节省时间和人力物力</a:t>
            </a:r>
            <a:r>
              <a:rPr b="0" i="1" lang="zh-CN" sz="2800" spc="-1" strike="noStrike">
                <a:solidFill>
                  <a:srgbClr val="ffcc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7"/>
          <p:cNvSpPr/>
          <p:nvPr/>
        </p:nvSpPr>
        <p:spPr>
          <a:xfrm>
            <a:off x="4141080" y="305424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准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7165800" y="4507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近似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5"/>
          <p:cNvSpPr/>
          <p:nvPr/>
        </p:nvSpPr>
        <p:spPr>
          <a:xfrm>
            <a:off x="7165800" y="305424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难度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79280" y="260280"/>
            <a:ext cx="253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cc00"/>
                </a:solidFill>
                <a:latin typeface="Arial"/>
                <a:ea typeface="隶书"/>
              </a:rPr>
              <a:t>议一议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395280" y="2109960"/>
            <a:ext cx="8496360" cy="21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cc00"/>
                </a:solidFill>
                <a:latin typeface="Arial"/>
                <a:ea typeface="楷体_GB2312"/>
              </a:rPr>
              <a:t>　　</a:t>
            </a: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当调查对象个数较少，调查容易进行或者调查的结果有特殊意义时，一般采用普查。　　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Arial"/>
                <a:ea typeface="楷体_GB2312"/>
              </a:rPr>
              <a:t>　　当调查对象个数较多，调查不容易进行或者调查的结果对调查的对象有破坏性，或者会产生一定的危害时，一般采用抽查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380880" y="457200"/>
            <a:ext cx="8367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2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、什么情况用普查？什么情况用抽样调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250560" y="260280"/>
            <a:ext cx="8569080" cy="38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</a:rPr>
              <a:t>下列各项调查中，哪些适合抽样调查，哪些适合普查，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１）某灯泡厂对生产的１０００只灯泡的使用寿命进行调查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２）调查市场上某品牌矿泉水的质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３）调查某字典的印刷错误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４）某服装厂调查江苏省１８岁青年的身高情况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５）检查一批新入伍的飞行员的视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0" y="5373720"/>
            <a:ext cx="914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解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（１）、（２）、（４）采用抽样调查　（３）、（５）采用普查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47280" y="259920"/>
            <a:ext cx="727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请你设计一种方案调查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０００只电灯泡的平均使用寿命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260280"/>
            <a:ext cx="121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Garamond"/>
                <a:ea typeface="方正舒体"/>
              </a:rPr>
              <a:t>讨论交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4"/>
          <p:cNvGrpSpPr/>
          <p:nvPr/>
        </p:nvGrpSpPr>
        <p:grpSpPr>
          <a:xfrm>
            <a:off x="1114200" y="1584360"/>
            <a:ext cx="6913800" cy="4797360"/>
            <a:chOff x="1114200" y="1584360"/>
            <a:chExt cx="6913800" cy="4797360"/>
          </a:xfrm>
        </p:grpSpPr>
        <p:pic>
          <p:nvPicPr>
            <p:cNvPr id="112" name="Picture 5" descr="1"/>
            <p:cNvPicPr/>
            <p:nvPr/>
          </p:nvPicPr>
          <p:blipFill>
            <a:blip r:embed="rId1"/>
            <a:stretch/>
          </p:blipFill>
          <p:spPr>
            <a:xfrm>
              <a:off x="5926320" y="3497400"/>
              <a:ext cx="2101680" cy="288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AutoShape 6"/>
            <p:cNvSpPr/>
            <p:nvPr/>
          </p:nvSpPr>
          <p:spPr>
            <a:xfrm flipH="1" flipV="1">
              <a:off x="1113480" y="1584360"/>
              <a:ext cx="5203800" cy="2651040"/>
            </a:xfrm>
            <a:prstGeom prst="cloudCallout">
              <a:avLst>
                <a:gd name="adj1" fmla="val -53754"/>
                <a:gd name="adj2" fmla="val -63652"/>
              </a:avLst>
            </a:prstGeom>
            <a:solidFill>
              <a:srgbClr val="e2e5e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7"/>
            <p:cNvSpPr/>
            <p:nvPr/>
          </p:nvSpPr>
          <p:spPr>
            <a:xfrm>
              <a:off x="1690920" y="2376360"/>
              <a:ext cx="453708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从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1</a:t>
              </a: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０００只电泡</a:t>
              </a:r>
              <a:br>
                <a:rPr sz="4000"/>
              </a:b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中抽取１０只进行</a:t>
              </a:r>
              <a:br>
                <a:rPr sz="4000"/>
              </a:br>
              <a:r>
                <a:rPr b="1" lang="zh-CN" sz="4000" spc="-1" strike="noStrike">
                  <a:solidFill>
                    <a:srgbClr val="cc0000"/>
                  </a:solidFill>
                  <a:latin typeface="Arial"/>
                </a:rPr>
                <a:t>检测．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总体：所要考察对象的全体叫做           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总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个体：组成总体的每一个考察对  象叫做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个体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样本：从总体中取出的一部分个 体叫做这个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总体的一个样本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 样本容量：样本中个体的数目叫做</a:t>
            </a:r>
            <a:r>
              <a:rPr b="1" lang="zh-CN" sz="3600" spc="-1" strike="noStrike">
                <a:solidFill>
                  <a:srgbClr val="ff0066"/>
                </a:solidFill>
                <a:latin typeface="宋体"/>
              </a:rPr>
              <a:t>样本容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统计中，为了叙述上的方便，我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们引入了几个概念：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713800" cy="61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为了了解某校七年级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名学生的体重情况，从中抽查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名学生的体重进行统计分析，在这个问题中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总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个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样本容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1403280" y="2708280"/>
            <a:ext cx="7129440" cy="64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该校七年级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的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4"/>
          <p:cNvSpPr/>
          <p:nvPr/>
        </p:nvSpPr>
        <p:spPr>
          <a:xfrm>
            <a:off x="1547640" y="3429000"/>
            <a:ext cx="71298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每一名学生的体重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5"/>
          <p:cNvSpPr/>
          <p:nvPr/>
        </p:nvSpPr>
        <p:spPr>
          <a:xfrm>
            <a:off x="2014560" y="5445000"/>
            <a:ext cx="712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6"/>
          <p:cNvSpPr/>
          <p:nvPr/>
        </p:nvSpPr>
        <p:spPr>
          <a:xfrm>
            <a:off x="1476360" y="4076640"/>
            <a:ext cx="7129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被抽取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的体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7"/>
          <p:cNvSpPr/>
          <p:nvPr/>
        </p:nvSpPr>
        <p:spPr>
          <a:xfrm>
            <a:off x="2484360" y="4724280"/>
            <a:ext cx="12225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５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8"/>
          <p:cNvSpPr/>
          <p:nvPr/>
        </p:nvSpPr>
        <p:spPr>
          <a:xfrm>
            <a:off x="0" y="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9" descr="GIF-502"/>
          <p:cNvPicPr/>
          <p:nvPr/>
        </p:nvPicPr>
        <p:blipFill>
          <a:blip r:embed="rId1"/>
          <a:stretch/>
        </p:blipFill>
        <p:spPr>
          <a:xfrm>
            <a:off x="7439040" y="4005360"/>
            <a:ext cx="1606680" cy="25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班共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学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男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4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女生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0560" y="1915920"/>
            <a:ext cx="8713800" cy="395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某次数学测试后，班主任李老师统计了全班每一位同学的成绩，并计算出班级平均分，李老师采取的是哪种调查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叶同学的爸爸想了解一下班级大致平均分，只选取了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的成绩进行计算，江叶的爸爸采取的是哪种调查方式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"/>
          <p:cNvSpPr/>
          <p:nvPr/>
        </p:nvSpPr>
        <p:spPr>
          <a:xfrm>
            <a:off x="395280" y="765000"/>
            <a:ext cx="1460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理解并掌握：普查、抽查、总体、个体、样本、样本容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判断一个个调查是普查还是抽查，并能说出原因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能从一个抽查中找到：总体、个体、样本、样本容量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23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 Narrow"/>
              </a:rPr>
              <a:t>３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李老师和江叶的爸爸如果同时进行计算，谁的速度比较快？谁的更准确？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0" y="2781360"/>
            <a:ext cx="88200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李老师因为工作量大，花费时间多，计算的结果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江叶的爸爸计算工作量较小，花费时间比较少，计算的结果不够准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79280" y="3141360"/>
            <a:ext cx="856944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任意选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名男生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选取阶段测试中总分前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名同学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0" y="260280"/>
            <a:ext cx="8893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于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的这次数学测试，江叶的爸爸因为临时有事，请三位同学按如下三种方法计算，你认为哪种方法计算的结果将会和李老师的计算结果比较接近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79280" y="494172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选取班级学号为单号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</a:rPr>
              <a:t>名同学的数学成绩进行计算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53964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总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个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样本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样本容量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539640" y="9075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４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请说出这次调查过程中的</a:t>
            </a: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总体，　个体，样本，样本容量．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2050920" y="2781360"/>
            <a:ext cx="822960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全体同学的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数学成绩。</a:t>
            </a:r>
            <a:br>
              <a:rPr sz="3600"/>
            </a:br>
            <a:r>
              <a:rPr b="1" lang="zh-CN" sz="4800" spc="-1" strike="noStrike">
                <a:solidFill>
                  <a:srgbClr val="000000"/>
                </a:solidFill>
                <a:latin typeface="宋体"/>
              </a:rPr>
              <a:t>.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174760" y="357192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我校初一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班每位同学的</a:t>
            </a:r>
            <a:br>
              <a:rPr sz="3600"/>
            </a:b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数学成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2268360" y="4653000"/>
            <a:ext cx="82296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从中抽取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名同学的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数学成绩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059280" y="5300640"/>
            <a:ext cx="8632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8"/>
          <p:cNvSpPr/>
          <p:nvPr/>
        </p:nvSpPr>
        <p:spPr>
          <a:xfrm>
            <a:off x="503280" y="1818000"/>
            <a:ext cx="86407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总体</a:t>
            </a:r>
            <a:r>
              <a:rPr b="1" i="1" lang="zh-CN" sz="3200" spc="-1" strike="noStrike">
                <a:solidFill>
                  <a:srgbClr val="99cc00"/>
                </a:solidFill>
                <a:latin typeface="Arial"/>
                <a:ea typeface="华文新魏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个体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样本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0000"/>
                </a:solidFill>
                <a:latin typeface="Arial"/>
                <a:ea typeface="华文新魏"/>
              </a:rPr>
              <a:t>样本的容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692360" y="2635920"/>
            <a:ext cx="65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该省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的数学成绩的全体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1763640" y="3356640"/>
            <a:ext cx="49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每名学生的数学成绩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</a:t>
            </a:r>
            <a:r>
              <a:rPr b="1" i="1" lang="zh-CN" sz="3200" spc="-1" strike="noStrike">
                <a:solidFill>
                  <a:srgbClr val="ff3399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1"/>
          <p:cNvSpPr/>
          <p:nvPr/>
        </p:nvSpPr>
        <p:spPr>
          <a:xfrm>
            <a:off x="1763640" y="40759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从中抽取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学生的数学成绩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2"/>
          <p:cNvSpPr/>
          <p:nvPr/>
        </p:nvSpPr>
        <p:spPr>
          <a:xfrm>
            <a:off x="3276720" y="4941000"/>
            <a:ext cx="194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。</a:t>
            </a:r>
            <a:r>
              <a:rPr b="1" i="1" lang="zh-CN" sz="3200" spc="-1" strike="noStrike">
                <a:solidFill>
                  <a:srgbClr val="ffcc00"/>
                </a:solidFill>
                <a:latin typeface="宋体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13"/>
          <p:cNvSpPr/>
          <p:nvPr/>
        </p:nvSpPr>
        <p:spPr>
          <a:xfrm>
            <a:off x="324000" y="79200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问题一：某省有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参加初中毕业会考，要想了解这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7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万名学生的数学成绩，从中抽取了</a:t>
            </a:r>
            <a:r>
              <a:rPr b="1" i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1000</a:t>
            </a:r>
            <a:r>
              <a:rPr b="1" i="1" lang="zh-CN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名学生的数学成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3"/>
          <p:cNvSpPr/>
          <p:nvPr/>
        </p:nvSpPr>
        <p:spPr>
          <a:xfrm>
            <a:off x="351000" y="2662920"/>
            <a:ext cx="8640720" cy="26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）为了滦平县六中七年级学生视力情况，从七年级学生中选取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0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人进行检测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（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2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）为了了解我市市区及周边近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7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人的出行情况，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400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名调查者走入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1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户家庭，发放</a:t>
            </a:r>
            <a:r>
              <a:rPr b="1" lang="en-US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3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  <a:ea typeface="楷体_GB2312"/>
              </a:rPr>
              <a:t>万份问卷，进行调查登记。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324000" y="117756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3300"/>
                </a:solidFill>
                <a:latin typeface="宋体"/>
                <a:ea typeface="楷体_GB2312"/>
              </a:rPr>
              <a:t>问题二：说出下列问题中的总体、个体、样本和样本容量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761976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666600"/>
                </a:solidFill>
                <a:latin typeface="宋体"/>
              </a:rPr>
              <a:t>这节课你有什么收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20680" y="1751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本节课主要是认识了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普查和抽样调查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两种方式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普查是通过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调查总体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式来收集数据的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抽样调查是通过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调查样本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方式来收集数据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　学习了</a:t>
            </a:r>
            <a:r>
              <a:rPr b="1" lang="zh-CN" sz="3200" spc="-1" strike="noStrike">
                <a:solidFill>
                  <a:srgbClr val="cc3300"/>
                </a:solidFill>
                <a:latin typeface="宋体"/>
              </a:rPr>
              <a:t>总体、个体样本和样本容　　量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概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0" y="0"/>
            <a:ext cx="1944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说一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G00315_"/>
          <p:cNvPicPr/>
          <p:nvPr/>
        </p:nvPicPr>
        <p:blipFill>
          <a:blip r:embed="rId1"/>
          <a:stretch/>
        </p:blipFill>
        <p:spPr>
          <a:xfrm>
            <a:off x="0" y="4549680"/>
            <a:ext cx="2173320" cy="23083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第五次全国人口普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4920" y="1700280"/>
            <a:ext cx="849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全国总人口为</a:t>
            </a: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9533</a:t>
            </a:r>
            <a:r>
              <a:rPr b="0" i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其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祖国大陆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个省、自治区、直辖市和现役军人的人口共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26583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香港特别行政区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678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澳门特别行政区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4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台湾省和福建省的金门、马祖等岛屿人口为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2228</a:t>
            </a:r>
            <a:r>
              <a:rPr b="0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。</a:t>
            </a:r>
            <a:br>
              <a:rPr sz="3600"/>
            </a:b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4"/>
          <p:cNvSpPr/>
          <p:nvPr/>
        </p:nvSpPr>
        <p:spPr>
          <a:xfrm>
            <a:off x="96840" y="5400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灯  泡  的  寿  命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284720" y="1600200"/>
            <a:ext cx="4402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随著科学家的研究与改良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灯泡的寿命早已由过去的几十个小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变成今日的十几万小时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2182adc3cac89b44147cd9e9071fead3"/>
          <p:cNvPicPr/>
          <p:nvPr/>
        </p:nvPicPr>
        <p:blipFill>
          <a:blip r:embed="rId1"/>
          <a:stretch/>
        </p:blipFill>
        <p:spPr>
          <a:xfrm>
            <a:off x="324000" y="1557360"/>
            <a:ext cx="3960720" cy="45356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5"/>
          <p:cNvSpPr/>
          <p:nvPr/>
        </p:nvSpPr>
        <p:spPr>
          <a:xfrm>
            <a:off x="96840" y="12528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196640"/>
            <a:ext cx="212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收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视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率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调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364500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在连云港电视台收视率调查中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人物纪录片《擦鞋夫妻》以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12.8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％的记录高出了该周连云港电视台自办的所有栏目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创该栏目成立以来有记载的最高收视记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%E7%94%B5%E8%A7%86%E6%9C%BA"/>
          <p:cNvPicPr/>
          <p:nvPr/>
        </p:nvPicPr>
        <p:blipFill>
          <a:blip r:embed="rId1"/>
          <a:stretch/>
        </p:blipFill>
        <p:spPr>
          <a:xfrm>
            <a:off x="2484360" y="333360"/>
            <a:ext cx="4608720" cy="311004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7885080" y="476280"/>
            <a:ext cx="936720" cy="22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Biz20051015165953"/>
          <p:cNvPicPr/>
          <p:nvPr/>
        </p:nvPicPr>
        <p:blipFill>
          <a:blip r:embed="rId1"/>
          <a:stretch/>
        </p:blipFill>
        <p:spPr>
          <a:xfrm>
            <a:off x="5076720" y="0"/>
            <a:ext cx="410364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52360" y="907560"/>
            <a:ext cx="619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体检中的身高、体重测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94920" y="2332080"/>
            <a:ext cx="4475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灌云实验中学学生每年都要进行一次体检，其中包括测量身高、体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"/>
          <p:cNvSpPr/>
          <p:nvPr/>
        </p:nvSpPr>
        <p:spPr>
          <a:xfrm>
            <a:off x="96840" y="54000"/>
            <a:ext cx="1954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读一读</a:t>
            </a:r>
            <a:r>
              <a:rPr b="1" i="1" lang="zh-CN" sz="4400" spc="-1" strike="noStrike">
                <a:solidFill>
                  <a:srgbClr val="ffcc00"/>
                </a:solidFill>
                <a:latin typeface="Arial"/>
                <a:ea typeface="楷体_GB2312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ircl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20360" y="3428640"/>
            <a:ext cx="259092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国人口总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5281560" y="3284640"/>
            <a:ext cx="2817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灯泡的寿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971640" y="6029280"/>
            <a:ext cx="28796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收视率调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5"/>
          <p:cNvSpPr/>
          <p:nvPr/>
        </p:nvSpPr>
        <p:spPr>
          <a:xfrm>
            <a:off x="4788000" y="6029280"/>
            <a:ext cx="4176720" cy="7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检中的身高、体重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u=3324945271,1389791693&amp;fm=0&amp;gp=10"/>
          <p:cNvPicPr/>
          <p:nvPr/>
        </p:nvPicPr>
        <p:blipFill>
          <a:blip r:embed="rId1"/>
          <a:stretch/>
        </p:blipFill>
        <p:spPr>
          <a:xfrm>
            <a:off x="1405080" y="1471680"/>
            <a:ext cx="2808000" cy="2028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7" descr="2182adc3cac89b44147cd9e9071fead3"/>
          <p:cNvPicPr/>
          <p:nvPr/>
        </p:nvPicPr>
        <p:blipFill>
          <a:blip r:embed="rId2"/>
          <a:stretch/>
        </p:blipFill>
        <p:spPr>
          <a:xfrm>
            <a:off x="5292720" y="1471680"/>
            <a:ext cx="2808360" cy="2028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8" descr="Biz20051015165953"/>
          <p:cNvPicPr/>
          <p:nvPr/>
        </p:nvPicPr>
        <p:blipFill>
          <a:blip r:embed="rId3"/>
          <a:stretch/>
        </p:blipFill>
        <p:spPr>
          <a:xfrm>
            <a:off x="5580000" y="4037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9" descr="%E7%94%B5%E8%A7%86%E6%9C%BA"/>
          <p:cNvPicPr/>
          <p:nvPr/>
        </p:nvPicPr>
        <p:blipFill>
          <a:blip r:embed="rId4"/>
          <a:stretch/>
        </p:blipFill>
        <p:spPr>
          <a:xfrm>
            <a:off x="1476360" y="4108320"/>
            <a:ext cx="2808360" cy="21290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0"/>
          <p:cNvSpPr/>
          <p:nvPr/>
        </p:nvSpPr>
        <p:spPr>
          <a:xfrm>
            <a:off x="324000" y="2637000"/>
            <a:ext cx="900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一</a:t>
            </a:r>
            <a:br>
              <a:rPr sz="4400"/>
            </a:br>
            <a:r>
              <a:rPr b="1" i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想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1"/>
          <p:cNvSpPr/>
          <p:nvPr/>
        </p:nvSpPr>
        <p:spPr>
          <a:xfrm>
            <a:off x="324000" y="431640"/>
            <a:ext cx="84596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99"/>
                </a:solidFill>
                <a:latin typeface="Arial"/>
                <a:ea typeface="楷体_GB2312"/>
              </a:rPr>
              <a:t>我们看到的这些数据是怎么得到的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3"/>
          <p:cNvSpPr/>
          <p:nvPr/>
        </p:nvSpPr>
        <p:spPr>
          <a:xfrm>
            <a:off x="250920" y="260280"/>
            <a:ext cx="856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为了收集这些数据，要进行一定的调查，我们这节课就一起来讨论一下数据收据的两种重要的方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4"/>
          <p:cNvSpPr/>
          <p:nvPr/>
        </p:nvSpPr>
        <p:spPr>
          <a:xfrm>
            <a:off x="2843280" y="3573360"/>
            <a:ext cx="3381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普查</a:t>
            </a:r>
            <a:r>
              <a:rPr b="1" lang="zh-CN" sz="6000" spc="-1" strike="noStrike">
                <a:solidFill>
                  <a:srgbClr val="808080"/>
                </a:solidFill>
                <a:latin typeface="Arial"/>
                <a:ea typeface="黑体"/>
              </a:rPr>
              <a:t>与</a:t>
            </a: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黑体"/>
              </a:rPr>
              <a:t>抽样调查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AutoShape 2"/>
          <p:cNvSpPr/>
          <p:nvPr/>
        </p:nvSpPr>
        <p:spPr>
          <a:xfrm>
            <a:off x="1692360" y="0"/>
            <a:ext cx="7451640" cy="981000"/>
          </a:xfrm>
          <a:prstGeom prst="cloudCallout">
            <a:avLst>
              <a:gd name="adj1" fmla="val -51236"/>
              <a:gd name="adj2" fmla="val 16957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cc0000"/>
                </a:solidFill>
                <a:latin typeface="Arial"/>
              </a:rPr>
              <a:t>下列调查是如何进行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197080" y="3438360"/>
            <a:ext cx="273528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全国人口总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5867280" y="3294000"/>
            <a:ext cx="2665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检中的身高、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重测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u=3324945271,1389791693&amp;fm=0&amp;gp=10"/>
          <p:cNvPicPr/>
          <p:nvPr/>
        </p:nvPicPr>
        <p:blipFill>
          <a:blip r:embed="rId1"/>
          <a:stretch/>
        </p:blipFill>
        <p:spPr>
          <a:xfrm>
            <a:off x="2268360" y="1133640"/>
            <a:ext cx="2664000" cy="22334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Biz20051015165953"/>
          <p:cNvPicPr/>
          <p:nvPr/>
        </p:nvPicPr>
        <p:blipFill>
          <a:blip r:embed="rId2"/>
          <a:stretch/>
        </p:blipFill>
        <p:spPr>
          <a:xfrm>
            <a:off x="5796000" y="1135080"/>
            <a:ext cx="2808360" cy="2232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395280" y="4437000"/>
            <a:ext cx="8229600" cy="21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为一特定目的而对</a:t>
            </a:r>
            <a:r>
              <a:rPr b="0" lang="zh-CN" sz="4400" spc="-1" strike="noStrike">
                <a:solidFill>
                  <a:srgbClr val="cc0000"/>
                </a:solidFill>
                <a:latin typeface="Arial"/>
              </a:rPr>
              <a:t>所有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考察对象作的</a:t>
            </a:r>
            <a:r>
              <a:rPr b="1" i="1" lang="zh-CN" sz="4400" spc="-1" strike="noStrike">
                <a:solidFill>
                  <a:srgbClr val="cc0000"/>
                </a:solidFill>
                <a:latin typeface="Arial"/>
              </a:rPr>
              <a:t>全面</a:t>
            </a:r>
            <a:r>
              <a:rPr b="1" lang="zh-CN" sz="4400" spc="-1" strike="noStrike">
                <a:solidFill>
                  <a:srgbClr val="808000"/>
                </a:solidFill>
                <a:latin typeface="Arial"/>
              </a:rPr>
              <a:t>调查叫做普查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"/>
          <p:cNvSpPr/>
          <p:nvPr/>
        </p:nvSpPr>
        <p:spPr>
          <a:xfrm>
            <a:off x="73080" y="117360"/>
            <a:ext cx="161928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ff66"/>
                </a:solidFill>
                <a:latin typeface="Arial"/>
                <a:ea typeface="楷体_GB2312"/>
              </a:rPr>
              <a:t>议一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9" descr="EA02020 副本"/>
          <p:cNvPicPr/>
          <p:nvPr/>
        </p:nvPicPr>
        <p:blipFill>
          <a:blip r:embed="rId3"/>
          <a:stretch/>
        </p:blipFill>
        <p:spPr>
          <a:xfrm>
            <a:off x="250920" y="1655640"/>
            <a:ext cx="1631880" cy="2205000"/>
          </a:xfrm>
          <a:prstGeom prst="rect">
            <a:avLst/>
          </a:prstGeom>
          <a:ln w="0">
            <a:noFill/>
          </a:ln>
        </p:spPr>
      </p:pic>
    </p:spTree>
  </p:cSld>
  <p:transition spd="med"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2-29T01:00:16Z</dcterms:created>
  <dc:creator> </dc:creator>
  <dc:description> </dc:description>
  <dc:language>en-US</dc:language>
  <cp:lastModifiedBy>Administrator</cp:lastModifiedBy>
  <dcterms:modified xsi:type="dcterms:W3CDTF">2018-12-29T01:00:52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205</vt:lpwstr>
  </property>
  <property fmtid="{D5CDD505-2E9C-101B-9397-08002B2CF9AE}" pid="3" name="Version">
    <vt:r8>1</vt:r8>
  </property>
</Properties>
</file>